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B19B-99DE-45F8-9D2A-A3CB63AB02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3AB3-36AC-41A0-894E-C49BE02936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EE36-EAD4-4E1A-97B7-6B8DAB1CF5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429-A0CE-4A2C-88C3-B385B7167E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8139-CB96-486F-B05C-FE9F7ED962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94AB-9EEC-44B0-B234-ECE9B45F37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B77E-24C8-4867-9BAC-87F00C11E4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92E-4117-4334-8937-F87593F411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DFE-78C9-43C5-82F5-4841CDD2F3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1625-3217-4B72-834F-3B1001A8D5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9F2-BF01-4345-A263-C69BAAEF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E7E-3176-4FCB-8187-C8E95DD3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588-529C-4885-8CEB-7612A37D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DB8-FF69-4570-88AE-ECA7E269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0B08-FFFB-4912-B2BC-E76F79CB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F01-2A4C-47FC-88E4-EBAB4F9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C8DD-6BAF-44CB-A9E0-BC50009F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07BE-EC55-45D2-B84A-B2877939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91AC-6BC5-484A-8351-ABEB6C5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36B-EE80-4627-9222-E260286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2AE3-CEA0-4209-BD2C-4DA8D44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F2B-0004-4806-B3C0-08DCF1F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B374-A50A-4F87-8C76-8B5B5EE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218-4DE3-4234-B0B3-33047CB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EFCC-F3AD-4F34-B277-0670E559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7DB8-B38F-4685-BA0A-8F5C2B67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55C4-823D-48C8-8870-75505E4E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1907-0CDD-4E2C-9A23-69A158AE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2C60-EEAE-4E9F-9B11-DB5CE8C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B11D-1244-4F0D-AB21-C9EDD19D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8F29-CD14-47D7-BBE7-0BD1149F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0063-DC70-4A55-A86F-8308A097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437-D65C-4823-B313-BB9329DC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5C94-584F-4DEA-A8DF-8D572289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6952-4451-4A07-B4B5-5168EC3A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EF43-0322-4FA7-85D6-87742C4A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FD38-C1B9-4739-9EF7-AD489D0A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A563-176E-4C2E-9AA1-6C06471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DDD5-D86C-4583-AD73-E545D625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B7F6-FFF0-47D4-94A0-027C767E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8AD0-8D35-47F6-82A1-FAE45C0D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A471-9A6A-4067-8DE2-FF50DFD7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8B66-4625-46CE-8AE5-68F6B205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6CA-A446-4308-9634-1DD0D61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ECEF-3E86-4D49-9F3A-0C6A951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17A4-B142-4141-8B12-2042BE1D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EFB9-23B4-4150-93BB-784BEB1C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6055-2351-47F6-9A8A-DEF4E55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811A-0DB6-49A1-85B6-13B6FE4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A5512-A7F7-4932-AAC0-3D4F2D50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B635-DC8C-4BCA-B4EE-5A9CD41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6228-B2AE-434C-B25C-BC2627ED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103F-B666-40EC-A530-3BEA7F36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28F3-E138-409C-A246-62110B07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8F5-1537-4D01-9008-57D311F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3F19-33CC-4366-901B-EDA8AAFF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97F4D-9840-4B1C-89D0-6C87E32E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192A-BD94-4531-8BE8-A9076C9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8172-81B8-4D52-9B17-B7667D67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23F9-47AE-447B-9524-A2FFC368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BF57-BC2F-4A77-9C2D-7A35F5F4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10A4-D4F7-4EEF-BE64-EA98162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0FC6-532C-448D-86F8-B7F4AD9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2442-EE34-4973-BD0A-158B79C5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87CD-942A-4E7E-9974-E1174625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CCA-2D93-4F00-84CB-DAC9101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9AFE-1506-484A-9648-BE947785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466AF-F67A-421B-B94C-0E12294C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B3AC-16F2-4769-8AEC-00CBFD0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A35F-AC11-4554-BA86-51000EB3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882D-4195-45EA-913E-4848E6E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0A90-67A6-468E-945F-EC622523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0A95-E53B-4A61-82D6-F4CAAB66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400F-9BB3-4BB9-871C-C989BEA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9CAF-0DD1-4922-A8A7-44EAA4F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58BE-E835-4BBA-9730-C02AD8B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028-301F-4FEB-A786-62431E8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67C29-C579-4862-94D7-820B3BE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2451-E300-4925-87D0-4434814A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AC1E3-0461-43CD-A7FE-B25957E0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9FC-E2AD-4564-9E8C-249900E9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FA2-A7C0-439B-865B-6DDB172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8C2-12C8-4650-8CED-4988621E314E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169A-E723-4AC6-8225-87AD2DAFDC91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5FAC-10E2-42D1-BAC8-AEC74CDF0D3C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4494-BDE1-48E0-981D-D54D8130BE9A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DF2-0986-46F8-8DAB-7413BEEEA44A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3843-7DEA-4B6B-90B4-2A0E5180068D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81160" y="182520"/>
            <a:ext cx="8021520" cy="3676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080" y="4571640"/>
            <a:ext cx="8139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чакова Т.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Сыктывкар, 2009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ии возникновения вселенной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9" descr="00010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14200" y="2428920"/>
            <a:ext cx="64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еория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ожественная теория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виды галактик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Содержимое 9" descr="galaxysample_block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10"/>
          <p:cNvSpPr/>
          <p:nvPr/>
        </p:nvSpPr>
        <p:spPr>
          <a:xfrm>
            <a:off x="0" y="20001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ир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липт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прави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9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9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8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9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8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ете ли вы как называется наша галактика и к какому типу она относится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а галактика – Млечный пу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лечный путь – спиральная 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Users\User\Desktop\Галактики   (инф)\картинки галактик\лшн.jpg"/>
          <p:cNvPicPr/>
          <p:nvPr/>
        </p:nvPicPr>
        <p:blipFill>
          <a:blip r:embed="rId1"/>
          <a:stretch/>
        </p:blipFill>
        <p:spPr>
          <a:xfrm>
            <a:off x="3857760" y="150012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0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ие виды звёзд вы знаете?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ормальные звёз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вёзды гига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вёзды карл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Белый кар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Красный карли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Коричневый кар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Чёрный кар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0" lang="ru-RU" sz="6500" spc="-1" strike="noStrike">
                <a:solidFill>
                  <a:srgbClr val="ff6600"/>
                </a:solidFill>
                <a:latin typeface="Franklin Gothic Book"/>
              </a:rPr>
              <a:t>Какие созвездия вы знаете?</a:t>
            </a:r>
            <a:endParaRPr b="0" lang="en-US" sz="6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8400" y="2428560"/>
            <a:ext cx="7467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Большая и малая медвед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Волосы Верон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Козер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Телец и т. 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8186760" cy="63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Назовите планеты солнечной системы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320" y="2142720"/>
            <a:ext cx="7900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еркур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ене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ем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р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Юпите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атур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ра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ту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луто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571760" y="3286080"/>
          <a:ext cx="4476600" cy="201600"/>
        </p:xfrm>
        <a:graphic>
          <a:graphicData uri="http://schemas.openxmlformats.org/drawingml/2006/table">
            <a:tbl>
              <a:tblPr/>
              <a:tblGrid>
                <a:gridCol w="447660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23880" y="3327480"/>
          <a:ext cx="6096240" cy="20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03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2" descr="Размеры планет Солнечной системы"/>
          <p:cNvPicPr/>
          <p:nvPr/>
        </p:nvPicPr>
        <p:blipFill>
          <a:blip r:embed="rId1"/>
          <a:stretch/>
        </p:blipFill>
        <p:spPr>
          <a:xfrm>
            <a:off x="2643120" y="1785960"/>
            <a:ext cx="578664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кие ещё космические тела вы знаете?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2960" y="2642760"/>
            <a:ext cx="804384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ерои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е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и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37:33Z</dcterms:created>
  <dc:creator>Горчакова</dc:creator>
  <dc:description/>
  <dc:language>en-US</dc:language>
  <cp:lastModifiedBy>Горчакова </cp:lastModifiedBy>
  <dcterms:modified xsi:type="dcterms:W3CDTF">2009-11-06T15:43:02Z</dcterms:modified>
  <cp:revision>30</cp:revision>
  <dc:subject/>
  <dc:title>Вселенная – бесконечна ли она</dc:title>
</cp:coreProperties>
</file>